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AF67-3858-4BF3-8BA3-411E08A6F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F377-041D-4E10-851F-5481E5571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AD2-15B3-4D6A-80AB-072761D4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BFB-45C4-4D54-8CEE-399FA96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8DC-8019-400A-A27D-ADF6CF95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AF0-2C03-49D1-85D6-5D6F05D6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095D-458E-4BF1-9413-B53E8260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DD9A-3728-4287-91CE-613C45F1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5758-9783-4BF0-B4F2-3D190E70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A2B2-2AF7-48AA-9338-4D054542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1BB8-D2E5-4175-8845-1FAD6811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0B7E-FA96-4DD8-8BCC-EB4D856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8996-B686-4E54-A626-01CE046A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19B-BF80-4C72-89D4-C5579C0F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32B-958C-4E62-8F15-E90DF83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C57-6784-4F46-82BF-3EB0792E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E26D-8A50-40C0-9C79-32A760C6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5C62-286C-4B87-B07A-BA2B08C2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6D16-C1AD-4773-9B70-8B219EA4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B4A8-2F50-4614-8F5C-266E21A0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9F54-8E74-4F77-B30F-E3DF763D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52A7C-D86C-43AC-AC43-6A27AE18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B324-2B84-4810-BE12-9E591AC2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085A-D36C-469E-9C4B-447D5D5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5F9-9519-4C65-8AFB-5C0C177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DD55-7B8F-4FC6-9E89-52CD9336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E227-6AE3-4B17-B626-AE1D875B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E40A-1E88-4BB4-972B-465DB944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E3BE-702B-41D9-84B8-93354E5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23E8-4BF5-42DA-B140-0274ED4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4363-AD21-40AD-83BE-344B6B85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6C52-8993-4F1E-9E1B-0E11F494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01B2-1653-4F2E-B2BC-9065301F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C6DC-63DD-4D06-AEED-B467355E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C4882-82F6-4FD9-BE54-0D7F53B8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F55-83D1-4B82-AA0A-E9FD12C2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E960-6679-44AF-86CC-03B70B3F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3F7D-4107-44FF-BB91-60543718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0DE3B-2F2E-4617-ADB1-AC3B50D1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E27B-CDA5-457C-9D5D-CEB3418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27C50-D490-4219-BBAB-DF495747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46159-B1F6-4763-940D-6C6522AF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3BFE-3C05-4D89-AC61-CD13FE6C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2817-1B8F-4904-BC6B-ACE0004D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FF85-F5D2-4A6B-9B8C-D6488384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CE5A9-2B42-4506-B67F-E13BE661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FE1-5D11-422A-A398-9BF8D46D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F4A4-2574-4487-9C29-476A6CAA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E6BF-BA1D-401E-AA93-E441E202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3682-CC6A-4E44-856A-76D0DFAF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AD592-49E0-49B4-B7F7-00A10768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08B76-EA02-477B-ABC5-F4166C1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C4ACF-1A88-4A3F-B7F2-0CFD5E7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64B7-5C9D-436D-B465-49643F28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92A7D-3A57-4260-A48D-2F17714A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5B220-7B82-4F9C-8330-80F75AD6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C8F4-9FD6-4FEC-A435-A64107DF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E06-EFB0-4E2C-87CC-9CCE58FC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5E35A-9232-4A1A-9FE1-D310A19F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38627-1A63-4849-BECC-9964C331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683EE-A234-4E48-AD07-8A1654DD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912F5-1FC8-4E07-99EB-6FBA04CD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5982D-BE3E-4E7E-8D0E-F633A5F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2CB66-375D-4423-A302-4D5CF77F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93134-8EB5-4256-B36A-13F3B1E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96592-59D4-4749-A088-1454F81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B90DF-45A5-4C61-AF62-A3DF4C4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351F2-C073-4F20-8639-F4AAA89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B9D-8488-45F5-B7A9-2353A41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87A37-7585-4D3E-B7BD-25D2A9D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35B90-B142-4F33-9821-6A852B25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A4539-EED5-461C-8AEA-8EB35388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74747-DAE1-4B6C-AECF-BADC0A74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4C54-C253-4AB3-B684-F25F7FF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73FDE-580B-4C58-A19F-222525ED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0C5CB-C3A3-4102-988B-FF1098F5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03795-4B1E-4E22-B2D6-1A30D35F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595D-2583-4216-A2F8-B224E91E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1033-5EDE-48AF-A4ED-B2A6DDF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40B-3709-4C18-999E-CB78292E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DD53F-0509-42E1-93A4-0F1995BD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4B662-9A2D-41E7-8D31-BF067921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2614C-8FF1-4D2F-AF92-6FC098B0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E338D-3742-43F1-B723-067E0A0C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075F6-7F3E-4FC9-AEBA-634A5EAE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B5D-F8F3-4C0B-961A-EF33D54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D62-25F5-48E2-879A-EFCA07C9065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025-A040-4350-935E-23D1FC738C84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7D75-0520-4147-93B2-3BFF453E6A8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A09F-0B99-42CC-A3F6-4DE6A7AE779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2FC3-7C25-4284-A928-D5B3F85FF8C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4D11-0A97-4E35-A4C8-40F5087FB0E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13D-8F23-4F2E-9814-355947BDD92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e and nicotine withdraw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quick facts for clinicians and administrators</a:t>
            </a:r>
            <a:br>
              <a:rPr sz="3200"/>
            </a:br>
            <a:r>
              <a:rPr b="0" lang="en-US" sz="1900" spc="-1" strike="noStrike">
                <a:solidFill>
                  <a:srgbClr val="6b7d72"/>
                </a:solidFill>
                <a:latin typeface="Arial"/>
              </a:rPr>
              <a:t>Mary.f.brunette@dartmouth.edu</a:t>
            </a:r>
            <a:br>
              <a:rPr sz="1900"/>
            </a:br>
            <a:r>
              <a:rPr b="0" lang="en-US" sz="1900" spc="-1" strike="noStrike">
                <a:solidFill>
                  <a:srgbClr val="6b7d72"/>
                </a:solidFill>
                <a:latin typeface="Arial"/>
              </a:rPr>
              <a:t>Geisel School of Medicine at Dartmouth</a:t>
            </a:r>
            <a:br>
              <a:rPr sz="1900"/>
            </a:br>
            <a:r>
              <a:rPr b="0" lang="en-US" sz="1900" spc="-1" strike="noStrike">
                <a:solidFill>
                  <a:srgbClr val="6b7d72"/>
                </a:solidFill>
                <a:latin typeface="Arial"/>
              </a:rPr>
              <a:t>2015</a:t>
            </a:r>
            <a:endParaRPr b="0" lang="en-US" sz="19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4876560" cy="2743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Kristin\Desktop\c4tbh-logos\c4tbh-logo.gif"/>
          <p:cNvPicPr/>
          <p:nvPr/>
        </p:nvPicPr>
        <p:blipFill>
          <a:blip r:embed="rId2"/>
          <a:stretch/>
        </p:blipFill>
        <p:spPr>
          <a:xfrm>
            <a:off x="5715000" y="4800600"/>
            <a:ext cx="3200400" cy="1409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3"/>
          <a:stretch/>
        </p:blipFill>
        <p:spPr>
          <a:xfrm>
            <a:off x="5943600" y="3657600"/>
            <a:ext cx="2666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f543f"/>
                </a:solidFill>
                <a:latin typeface="Times New Roman"/>
              </a:rPr>
              <a:t>WHAT is Nicotine?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25520" y="1719000"/>
            <a:ext cx="54417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Nicotine is a chemical made by the tobacco plan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Nicotine is the main addictive component of tobacco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Nicotine is otherwise safe in cigarette amount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Nicotine in huge doses can be poisonous, but it is not possible to get that amount from smoking or from nicotine replacement therap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4" name="Content Placeholder 5" descr="tobacco-plant.jpg"/>
          <p:cNvPicPr/>
          <p:nvPr/>
        </p:nvPicPr>
        <p:blipFill>
          <a:blip r:embed="rId1"/>
          <a:srcRect l="-27424" t="0" r="-27424" b="0"/>
          <a:stretch/>
        </p:blipFill>
        <p:spPr>
          <a:xfrm>
            <a:off x="50292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Other components of tobacco can be very harmful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Many other tobacco components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Plant component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599 approved additives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Many are harmful toxi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Tobacco smoke has over 4000 component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Many chemicals in smoke are harmful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Times New Roman"/>
              </a:rPr>
              <a:t>IT’S THE Toxins in smoke THAT cause CVD, cancer, lung disease, diabete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8" name="Content Placeholder 3" descr="tobac ingredient.jpg"/>
          <p:cNvPicPr/>
          <p:nvPr/>
        </p:nvPicPr>
        <p:blipFill>
          <a:blip r:embed="rId1"/>
          <a:srcRect l="-20966" t="0" r="-20966" b="0"/>
          <a:stretch/>
        </p:blipFill>
        <p:spPr>
          <a:xfrm>
            <a:off x="0" y="21337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Times New Roman"/>
              </a:rPr>
              <a:t>Neurobiology of Nicotin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Nicotine from tobacco is a chemical that is similar to naturally made chemicals in the body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08520" indent="-2055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Nicotine effects are mediated by receptors in many parts of the body, including the gastro-intestinal system and the neurons in the brai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08520" indent="-2055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Nicotine slightly improv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575640" indent="-205560">
              <a:lnSpc>
                <a:spcPct val="90000"/>
              </a:lnSpc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Times New Roman"/>
              </a:rPr>
              <a:t>Memory and attention 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575640" indent="-205560">
              <a:lnSpc>
                <a:spcPct val="90000"/>
              </a:lnSpc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Times New Roman"/>
              </a:rPr>
              <a:t>Relaxation, ability to enjoy things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5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Times New Roman"/>
              </a:rPr>
              <a:t>(reward)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08520" indent="-2055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People who use tobacco regular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become dependent on nicotine, a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with caffeine, causing withdrawal if one stops abrupt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5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1" name="Picture 3" descr="img0"/>
          <p:cNvPicPr/>
          <p:nvPr/>
        </p:nvPicPr>
        <p:blipFill>
          <a:blip r:embed="rId1"/>
          <a:stretch/>
        </p:blipFill>
        <p:spPr>
          <a:xfrm>
            <a:off x="5249880" y="3962520"/>
            <a:ext cx="3541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What is Nicotine withdrawal?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5520" y="1719000"/>
            <a:ext cx="68896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</a:rPr>
              <a:t>Withdrawal symptoms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Peak in 1-4 days, lasts weeks to month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</a:rPr>
              <a:t>Can be very uncomfortable and they includ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c271b"/>
                </a:solidFill>
                <a:latin typeface="Times New Roman"/>
              </a:rPr>
              <a:t>Urges &amp; craving for tobacco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4b3c"/>
                </a:solidFill>
                <a:latin typeface="Times New Roman"/>
              </a:rPr>
              <a:t>Dysphoric or depressed mood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4b3c"/>
                </a:solidFill>
                <a:latin typeface="Times New Roman"/>
              </a:rPr>
              <a:t>Irritability, frustration, anger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4b3c"/>
                </a:solidFill>
                <a:latin typeface="Times New Roman"/>
              </a:rPr>
              <a:t>Anxiet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Insomnia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Difficulty concentrating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Restlessness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Decreased heart rate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Increased appetite/weight gain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2" marL="857160" indent="-285480">
              <a:lnSpc>
                <a:spcPct val="100000"/>
              </a:lnSpc>
              <a:spcBef>
                <a:spcPts val="499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Reduced concentration and increased impulsivit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457200" y="60609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Nicotine Replacement Therapy reduces withdrawal 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Nicotine Replacement Therapy reduces nicotine withdrawal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Using nicotine replacement therapy makes cutting down and quitting more tolerable for people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ay improve ability to remember and use coping skills when urges occur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Nicotine replacement therapy does not suppress cue-induced craving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eople need help learning skills to avoid smoking when they have an urge even when using nicotine replacement therapy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ummary: 6 facts about nicotine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4400" indent="-4431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Nicotine is the addictive component in tobacco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54400" indent="-4431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Nicotine in cigarette doses is not toxic; smoke is toxic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54400" indent="-4431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People who use nicotine regularly become addicted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54400" indent="-4431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Reducing or stopping nicotine leads to withdrawal symptom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54400" indent="-4431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Nicotine replacement therapy reduces but does not completely get rid of withdrawal symptom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54400" indent="-4431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Learning skills to cope during withdrawal increases people’s ability to quit tobacco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4:03:21Z</dcterms:created>
  <dc:creator>Mary Brunete</dc:creator>
  <dc:description/>
  <dc:language>en-US</dc:language>
  <cp:lastModifiedBy>Mary Brunette</cp:lastModifiedBy>
  <cp:lastPrinted>2015-08-28T20:02:17Z</cp:lastPrinted>
  <dcterms:modified xsi:type="dcterms:W3CDTF">2016-02-07T20:58:12Z</dcterms:modified>
  <cp:revision>315</cp:revision>
  <dc:subject/>
  <dc:title>  International Patient Decision Aids Standards Collaboration  Quality Criteria</dc:title>
</cp:coreProperties>
</file>