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1FAF-0497-43AB-BDE1-2B8E26F1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60A2-8F9C-40D8-BE58-F7DA5798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5DB4-1E20-4967-BE55-93910FB7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9CA-35CC-49F2-8892-D42B59E4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2958-A561-4078-936C-8BADDB98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CF95-EC4B-4685-93BB-104889CF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3A62-CB20-4785-AD9F-B865A6F7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1B1F-CE6A-4914-8D9D-6BC06391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55FD-22D4-4D5C-85C7-14A33A06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F1B0-3225-443B-B0CB-689BD026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5C5B-BDE8-495F-8867-5EEA0B00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54AC-679C-479C-A0F9-3446DFEB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DBCB-DB3B-470F-9799-72BFC6ED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48E5-0A7C-4312-B4CD-A1F095E4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323B-2722-4E5F-A918-52A00EF5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6B73-C3B4-45D8-AD86-92DF1E17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E25A-BDA1-4CA0-8F57-CDF020F1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F2EDF-E0AC-4693-A192-0F4080CC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9E3E4-16CA-486A-93FB-4D9A4260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14112-C7CE-4C09-9411-0BF5D544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67485-A08F-4B4C-9A2E-3F90D431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1000A-0D3F-40C1-9ECD-537740FE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1E1-5C6E-4BFE-95C5-FD1EBEC0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FD6FF-7B5C-4BE6-8201-E5C12F13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CE01E-2A5A-4FA0-972F-F9166F01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A25EF-C651-4498-AE41-18940FE9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0194A-8A70-4F4C-8F54-8E6A77B9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8A6C7-A092-4894-B6E6-5454B0F5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4BF53-9AC6-4C0F-A0CD-27D088CE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6BF22-3CF0-4B91-82BD-396B5030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FBB68-E91B-46DB-B833-5C78A768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42925-ADEB-4388-B12F-30DA95BA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4CB1C-8D52-418C-9097-96DE4085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2157-007B-4D90-81A5-C0720B6E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E0F1F-E38F-4A98-8D44-B94189DE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8C1A0-8AC3-4104-9C9B-F031A891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FC7FF-C1AF-4B29-871A-69F85BCF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B4229-73D7-442F-B4F1-366B2FDA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C2030-DC4E-4F8C-898B-8EA1DF77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A5736-5E0D-45E4-B6F0-DDF79B39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B33E0-3FA0-4FE1-95E8-639E518A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28C01-F224-4B14-84A2-9FA5CAD3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65B78-D132-4131-823C-9545B5A4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71DAB-603C-4759-9097-1AE87F2C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9E8-9A8F-43F5-BFA7-E5E4BE7A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9E9C3-27A2-4191-A020-5440B745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D32AA-5918-454E-AECB-2BFBAF9E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042C9-48BA-476A-9EE7-61106CEC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F615A-B9AA-4CD8-89CE-BE671014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9421B-4C49-4CE7-8722-707464B7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153E5-0252-4E1A-A12C-6147B238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A0583-87FB-4126-A16E-45CE6F32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080C5-32BB-421B-8558-399A5209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EC247-CAAD-4308-B926-161C7D5C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670A7-2A81-48AC-A9D2-AE63A309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E9E-F80E-4EBF-8986-54D9BAF7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3C078-FFF1-4639-AA1D-FAEEF49D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EF0620-FE0A-45FB-9674-AC0CB8E3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FF6AA4-0371-4820-B6D7-157B8030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0B913E-D940-40B5-8D97-BD51DDB3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3A9237-6573-4751-A1A9-1802CB4F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4A66D8-5AFA-4165-9148-AE5F16F1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30E9C0-A1D4-44D6-88FF-79D02BD1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7B4A66-933A-476D-88DD-4387DBEB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563E49-BAB3-4731-B504-F6703CA4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776B90-4D05-4A5D-B4BC-55AA7822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7272-0413-4B74-9B88-3EB8FFD9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E693BC-007E-4629-9AA3-81068B0A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9930BA-6FAE-4A47-B339-82C1C597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6E812B-255D-418D-9E62-3F2E29D0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D96C6-FD90-4778-B3E6-35BE96D2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6DF44-54C7-4199-B054-0D45B678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458A7-B1F9-4BF6-8A2D-428DEF78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6459A-2803-46CE-8036-A410A7CB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5D91B-7D90-4749-83F8-D30209AC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2D2C6-A2A4-4CAB-8105-65EE91B9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ECA45-636D-4333-A49B-095EFBF6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84F-1584-4949-A29D-0C4ED63B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21281-47FB-4E0C-8664-030ADC15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4F52D-9E0B-4465-9EBB-5490E9B7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1318D-6E1D-4FAD-82DC-1929B717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E3114-6FF1-41FB-8BFE-8207234F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063E8-0CED-4C58-A675-91322B48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47E-6D1D-47B5-9368-5B266BE9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3E8C-05D4-4CA2-863A-54484130458A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74680"/>
            <a:ext cx="8594640" cy="1334880"/>
            <a:chOff x="274680" y="274680"/>
            <a:chExt cx="859464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74680"/>
              <a:ext cx="859464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1280" y="2938320"/>
            <a:ext cx="7156440" cy="2468880"/>
            <a:chOff x="341280" y="2938320"/>
            <a:chExt cx="7156440" cy="246888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76D2-8C09-465D-880C-49B66191F7DB}" type="slidenum">
              <a:rPr b="0" lang="en-US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E16C-6362-4D73-B5AD-63A63A404782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CDB7-6344-4ADA-9A2B-5F6F6C4062DA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54040" y="1504800"/>
            <a:ext cx="2725560" cy="3524400"/>
            <a:chOff x="554040" y="1504800"/>
            <a:chExt cx="272556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54040" y="1504800"/>
              <a:ext cx="272556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05AB-7688-4F47-9D08-7DA6C65A50C5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2560" y="4950000"/>
            <a:ext cx="7778880" cy="1377720"/>
            <a:chOff x="682560" y="4950000"/>
            <a:chExt cx="7778880" cy="137772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7888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C58A-AD4A-4A68-9C01-A840C95268F3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B08C-79BA-425A-BD90-11206C3960DD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ounded Rectangle 31"/>
          <p:cNvSpPr/>
          <p:nvPr/>
        </p:nvSpPr>
        <p:spPr>
          <a:xfrm>
            <a:off x="203040" y="6058080"/>
            <a:ext cx="8433000" cy="6858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  <a:tailEnd len="med" type="triangle" w="med"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27"/>
          <p:cNvSpPr/>
          <p:nvPr/>
        </p:nvSpPr>
        <p:spPr>
          <a:xfrm>
            <a:off x="6705720" y="3886200"/>
            <a:ext cx="2133360" cy="571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ounded Rectangle 26"/>
          <p:cNvSpPr/>
          <p:nvPr/>
        </p:nvSpPr>
        <p:spPr>
          <a:xfrm>
            <a:off x="3505320" y="3886200"/>
            <a:ext cx="2133360" cy="571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b7d72"/>
                </a:solidFill>
                <a:latin typeface="Arial"/>
              </a:rPr>
              <a:t>A Guide for Choosing Smoking Cessation Medication in</a:t>
            </a:r>
            <a:br>
              <a:rPr sz="1600"/>
            </a:br>
            <a:r>
              <a:rPr b="1" lang="en-US" sz="1600" spc="-1" strike="noStrike">
                <a:solidFill>
                  <a:srgbClr val="6b7d72"/>
                </a:solidFill>
                <a:latin typeface="Arial"/>
              </a:rPr>
              <a:t> Mental Illness/addiction</a:t>
            </a:r>
            <a:br>
              <a:rPr sz="1400"/>
            </a:br>
            <a:r>
              <a:rPr b="0" lang="en-US" sz="900" spc="-1" strike="noStrike">
                <a:solidFill>
                  <a:srgbClr val="6b7d72"/>
                </a:solidFill>
                <a:latin typeface="Arial"/>
              </a:rPr>
              <a:t>Tailoring based on research evidence</a:t>
            </a:r>
            <a:br>
              <a:rPr sz="900"/>
            </a:br>
            <a:r>
              <a:rPr b="0" lang="en-US" sz="900" spc="-1" strike="noStrike">
                <a:solidFill>
                  <a:srgbClr val="6b7d72"/>
                </a:solidFill>
                <a:latin typeface="Arial"/>
              </a:rPr>
              <a:t> (ANTHENELLI 2016; Bader 2009; Fiore 2008; Piper 2009; </a:t>
            </a:r>
            <a:br>
              <a:rPr sz="900"/>
            </a:br>
            <a:r>
              <a:rPr b="0" lang="en-US" sz="900" spc="-1" strike="noStrike">
                <a:solidFill>
                  <a:srgbClr val="6b7d72"/>
                </a:solidFill>
                <a:latin typeface="Arial"/>
              </a:rPr>
              <a:t>Evins 2010; Hitsman 2009)</a:t>
            </a:r>
            <a:br>
              <a:rPr sz="1600"/>
            </a:br>
            <a:endParaRPr b="0" lang="en-US" sz="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304920" y="412200"/>
            <a:ext cx="4684680" cy="192456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marL="343080" indent="-343080">
              <a:buClr>
                <a:srgbClr val="0003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303"/>
                </a:solidFill>
                <a:latin typeface="Arial"/>
              </a:rPr>
              <a:t>Get smoker to their baseline for their behavioral health condition and initiating abstinence from substances.  </a:t>
            </a:r>
            <a:r>
              <a:rPr b="0" lang="en-US" sz="1200" spc="-1" strike="noStrike">
                <a:solidFill>
                  <a:srgbClr val="000303"/>
                </a:solidFill>
                <a:latin typeface="Arial"/>
              </a:rPr>
              <a:t>Then assess whether, in the past </a:t>
            </a:r>
            <a:r>
              <a:rPr b="0" i="1" lang="en-US" sz="1200" spc="-1" strike="noStrike">
                <a:solidFill>
                  <a:srgbClr val="000303"/>
                </a:solidFill>
                <a:latin typeface="Arial"/>
              </a:rPr>
              <a:t>year</a:t>
            </a:r>
            <a:r>
              <a:rPr b="0" lang="en-US" sz="1200" spc="-1" strike="noStrike">
                <a:solidFill>
                  <a:srgbClr val="000303"/>
                </a:solidFill>
                <a:latin typeface="Arial"/>
              </a:rPr>
              <a:t>, was this pati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cidal or homici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tly de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willing to attend regular doctor’s appointments to monitor me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18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7"/>
          <p:cNvSpPr/>
          <p:nvPr/>
        </p:nvSpPr>
        <p:spPr>
          <a:xfrm>
            <a:off x="304920" y="2683440"/>
            <a:ext cx="2946240" cy="1276920"/>
          </a:xfrm>
          <a:prstGeom prst="roundRect">
            <a:avLst>
              <a:gd name="adj" fmla="val 11755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303"/>
                </a:solidFill>
                <a:latin typeface="Arial"/>
              </a:rPr>
              <a:t>2.  Does patient have a history of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z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18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6553080" y="1600200"/>
            <a:ext cx="2032200" cy="457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303"/>
                </a:solidFill>
                <a:latin typeface="Arial"/>
              </a:rPr>
              <a:t>VARENI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AutoShape 9" descr=""/>
          <p:cNvPicPr/>
          <p:nvPr/>
        </p:nvPicPr>
        <p:blipFill>
          <a:blip r:embed="rId1"/>
          <a:stretch/>
        </p:blipFill>
        <p:spPr>
          <a:xfrm>
            <a:off x="42840" y="4505400"/>
            <a:ext cx="8955000" cy="97452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12"/>
          <p:cNvSpPr/>
          <p:nvPr/>
        </p:nvSpPr>
        <p:spPr>
          <a:xfrm>
            <a:off x="406440" y="5676840"/>
            <a:ext cx="3048120" cy="30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303"/>
                </a:solidFill>
                <a:latin typeface="Arial"/>
              </a:rPr>
              <a:t>High dose combination N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5"/>
          <p:cNvSpPr/>
          <p:nvPr/>
        </p:nvSpPr>
        <p:spPr>
          <a:xfrm>
            <a:off x="3352680" y="2743200"/>
            <a:ext cx="1016280" cy="365040"/>
          </a:xfrm>
          <a:prstGeom prst="rightArrow">
            <a:avLst>
              <a:gd name="adj1" fmla="val 50000"/>
              <a:gd name="adj2" fmla="val 58116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eced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303"/>
                </a:solidFill>
                <a:latin typeface="Arial"/>
              </a:rPr>
              <a:t>No to 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6"/>
          <p:cNvSpPr/>
          <p:nvPr/>
        </p:nvSpPr>
        <p:spPr>
          <a:xfrm>
            <a:off x="5181480" y="1523880"/>
            <a:ext cx="1301760" cy="363600"/>
          </a:xfrm>
          <a:prstGeom prst="rightArrow">
            <a:avLst>
              <a:gd name="adj1" fmla="val 50000"/>
              <a:gd name="adj2" fmla="val 50239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eced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303"/>
                </a:solidFill>
                <a:latin typeface="Arial"/>
              </a:rPr>
              <a:t>No to 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0"/>
          <p:cNvSpPr/>
          <p:nvPr/>
        </p:nvSpPr>
        <p:spPr>
          <a:xfrm>
            <a:off x="1828800" y="228600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eced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1"/>
          <p:cNvSpPr/>
          <p:nvPr/>
        </p:nvSpPr>
        <p:spPr>
          <a:xfrm>
            <a:off x="1727280" y="3809880"/>
            <a:ext cx="812880" cy="704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eced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2"/>
          <p:cNvSpPr/>
          <p:nvPr/>
        </p:nvSpPr>
        <p:spPr>
          <a:xfrm>
            <a:off x="914400" y="2000160"/>
            <a:ext cx="957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4"/>
          <p:cNvSpPr/>
          <p:nvPr/>
        </p:nvSpPr>
        <p:spPr>
          <a:xfrm>
            <a:off x="762120" y="236232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es to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5"/>
          <p:cNvSpPr/>
          <p:nvPr/>
        </p:nvSpPr>
        <p:spPr>
          <a:xfrm>
            <a:off x="609480" y="4038480"/>
            <a:ext cx="1320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Yes to a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7"/>
          <p:cNvSpPr/>
          <p:nvPr/>
        </p:nvSpPr>
        <p:spPr>
          <a:xfrm>
            <a:off x="762120" y="5410080"/>
            <a:ext cx="142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es to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ounded Rectangle 21"/>
          <p:cNvSpPr/>
          <p:nvPr/>
        </p:nvSpPr>
        <p:spPr>
          <a:xfrm>
            <a:off x="4419720" y="2209680"/>
            <a:ext cx="4368600" cy="108612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  <a:tailEnd len="med" type="triangle" w="med"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303"/>
                </a:solidFill>
                <a:latin typeface="Arial"/>
              </a:rPr>
              <a:t>3.  Does pati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e 20 or more cigarette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history of failure at serious  quit attem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icotine withdrawal when patient  stops smoking,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ure on single daily low dose of N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4"/>
          <p:cNvSpPr/>
          <p:nvPr/>
        </p:nvSpPr>
        <p:spPr>
          <a:xfrm>
            <a:off x="6705720" y="3943440"/>
            <a:ext cx="203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303"/>
                </a:solidFill>
                <a:latin typeface="Times New Roman"/>
              </a:rPr>
              <a:t>BUPROPION </a:t>
            </a:r>
            <a:r>
              <a:rPr b="0" lang="en-US" sz="1000" spc="-1" strike="noStrike">
                <a:solidFill>
                  <a:srgbClr val="000303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303"/>
                </a:solidFill>
                <a:latin typeface="Times New Roman"/>
              </a:rPr>
              <a:t>Low dose       combination N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25"/>
          <p:cNvSpPr/>
          <p:nvPr/>
        </p:nvSpPr>
        <p:spPr>
          <a:xfrm>
            <a:off x="3606840" y="394344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303"/>
                </a:solidFill>
                <a:latin typeface="Times New Roman"/>
              </a:rPr>
              <a:t>BUPROPION </a:t>
            </a:r>
            <a:r>
              <a:rPr b="0" lang="en-US" sz="1000" spc="-1" strike="noStrike">
                <a:solidFill>
                  <a:srgbClr val="000303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303"/>
                </a:solidFill>
                <a:latin typeface="Times New Roman"/>
              </a:rPr>
              <a:t> High d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303"/>
                </a:solidFill>
                <a:latin typeface="Times New Roman"/>
              </a:rPr>
              <a:t>combination N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Down Arrow 28"/>
          <p:cNvSpPr/>
          <p:nvPr/>
        </p:nvSpPr>
        <p:spPr>
          <a:xfrm>
            <a:off x="5079960" y="3486240"/>
            <a:ext cx="507960" cy="342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  <a:tailEnd len="med" type="triangle" w="med"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Down Arrow 29"/>
          <p:cNvSpPr/>
          <p:nvPr/>
        </p:nvSpPr>
        <p:spPr>
          <a:xfrm>
            <a:off x="7416720" y="3486240"/>
            <a:ext cx="507960" cy="342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cc"/>
          </a:solidFill>
          <a:ln w="9360">
            <a:solidFill>
              <a:srgbClr val="000000"/>
            </a:solidFill>
            <a:round/>
            <a:tailEnd len="med" type="triangle" w="med"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30"/>
          <p:cNvSpPr/>
          <p:nvPr/>
        </p:nvSpPr>
        <p:spPr>
          <a:xfrm>
            <a:off x="3759120" y="3486240"/>
            <a:ext cx="142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es to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31"/>
          <p:cNvSpPr/>
          <p:nvPr/>
        </p:nvSpPr>
        <p:spPr>
          <a:xfrm>
            <a:off x="6502320" y="3486240"/>
            <a:ext cx="105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 to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30"/>
          <p:cNvSpPr/>
          <p:nvPr/>
        </p:nvSpPr>
        <p:spPr>
          <a:xfrm>
            <a:off x="304920" y="6058080"/>
            <a:ext cx="83311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303"/>
                </a:solidFill>
                <a:latin typeface="Times New Roman"/>
              </a:rPr>
              <a:t>Combination Nicotine Replacement Therapy (NRT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303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303"/>
                </a:solidFill>
                <a:latin typeface="Times New Roman"/>
              </a:rPr>
              <a:t>High dose NRT:  21mg patch plus immediate release                                            Low dose NRT:  14mg patch  plus immediate release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303"/>
                </a:solidFill>
                <a:latin typeface="Times New Roman"/>
              </a:rPr>
              <a:t>Immediate release: gum, lozenge, spray or inhaler up to 8 X day at appropriate strength. (Gum and lozenge come in either 2mg or 4 mg strength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34"/>
          <p:cNvSpPr/>
          <p:nvPr/>
        </p:nvSpPr>
        <p:spPr>
          <a:xfrm>
            <a:off x="5105520" y="5410080"/>
            <a:ext cx="142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 to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ounded Rectangle 35"/>
          <p:cNvSpPr/>
          <p:nvPr/>
        </p:nvSpPr>
        <p:spPr>
          <a:xfrm>
            <a:off x="4978440" y="5715000"/>
            <a:ext cx="2946240" cy="304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303"/>
                </a:solidFill>
                <a:latin typeface="Arial"/>
              </a:rPr>
              <a:t>Low dose combination N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Down Arrow 36"/>
          <p:cNvSpPr/>
          <p:nvPr/>
        </p:nvSpPr>
        <p:spPr>
          <a:xfrm>
            <a:off x="6095880" y="5372280"/>
            <a:ext cx="64620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cc"/>
          </a:solidFill>
          <a:ln w="9360">
            <a:solidFill>
              <a:srgbClr val="000000"/>
            </a:solidFill>
            <a:round/>
            <a:tailEnd len="med" type="triangle" w="med"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Down Arrow 37"/>
          <p:cNvSpPr/>
          <p:nvPr/>
        </p:nvSpPr>
        <p:spPr>
          <a:xfrm>
            <a:off x="1727280" y="5372280"/>
            <a:ext cx="64620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  <a:tailEnd len="med" type="triangle" w="med"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14:03:21Z</dcterms:created>
  <dc:creator>Mary Brunete</dc:creator>
  <dc:description/>
  <dc:language>en-US</dc:language>
  <cp:lastModifiedBy>Mary Brunette</cp:lastModifiedBy>
  <cp:lastPrinted>2014-09-25T13:51:18Z</cp:lastPrinted>
  <dcterms:modified xsi:type="dcterms:W3CDTF">2016-05-06T17:27:15Z</dcterms:modified>
  <cp:revision>343</cp:revision>
  <dc:subject/>
  <dc:title>  International Patient Decision Aids Standards Collaboration  Quality Criteria</dc:title>
</cp:coreProperties>
</file>